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66600" y="777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Building Project Portfol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4"/>
          </p:nvPr>
        </p:nvSpPr>
        <p:spPr>
          <a:xfrm>
            <a:off x="3759120" y="77760"/>
            <a:ext cx="3038400" cy="650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vil Engineering and Architecture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4 – Lesson 4.2 – Commercial Building Design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5"/>
          </p:nvPr>
        </p:nvSpPr>
        <p:spPr>
          <a:xfrm>
            <a:off x="77760" y="858528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6"/>
          </p:nvPr>
        </p:nvSpPr>
        <p:spPr>
          <a:xfrm>
            <a:off x="3733920" y="861048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3CB443A-F6E9-46AF-8C2D-D4E2FDD77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5"/>
          <p:cNvSpPr/>
          <p:nvPr/>
        </p:nvSpPr>
        <p:spPr>
          <a:xfrm>
            <a:off x="3733920" y="861048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FC3DEB7-94FA-4EB1-994F-4746F7BC7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3733920" y="861048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6AC811E-0E8D-4DB8-B51B-618112FCF1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5"/>
          <p:cNvSpPr/>
          <p:nvPr/>
        </p:nvSpPr>
        <p:spPr>
          <a:xfrm>
            <a:off x="3733920" y="861048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97F552A-1A65-40F1-B6E1-AB2159FBE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3733920" y="861048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79CFF28-80B6-4CC3-95DB-47BC777A8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389829A-7913-4435-92FB-ABA498680B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0A7AC3A-09B8-499F-A574-76C5AD1B9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image http://www.istockphoto.com/stock-photo-3725359-blueprints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9E91200-AB73-4FB1-ADA8-483B1A770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398D174-5A04-4978-AAF3-30E499249A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D634E18-8FE3-4433-8D78-6ABA5F0B7B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23F818B-6257-4A31-AEF9-64419DB84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E030-3FE7-42CE-BB56-A664D1136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6668-1A37-44CF-8DC4-621CCC25C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EAC8-A425-4902-9AF5-6FE444EFF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E5A4-81C2-4A15-B573-1D583F534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2A9D-F281-4EC0-9653-07C06C51F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86C3-5BDF-4E4D-8336-AAFFDE1AC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D0E7-38D5-4F82-887D-E9B4FF78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7182-EB6E-4498-BB78-CE579292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CF99-73A3-46AF-8CB9-CC3377EE9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23FE-6796-4002-8CF3-0B5CD7221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3583-E7DF-4669-BBF6-92FFE2A34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6B8E-B4E2-45A7-96AE-9344C545C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86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86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8A127-FBCD-4151-8394-52B1D8F4B2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office.microsoft.com/en-us/clipart/default.aspx" TargetMode="External"/><Relationship Id="rId2" Type="http://schemas.openxmlformats.org/officeDocument/2006/relationships/hyperlink" Target="http://office.microsoft.com/en-us/clipart/default.aspx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939840"/>
            <a:ext cx="777240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86b"/>
                </a:solidFill>
                <a:latin typeface="Arial"/>
              </a:rPr>
              <a:t>Commercial Building </a:t>
            </a:r>
            <a:br>
              <a:rPr sz="4400"/>
            </a:br>
            <a:r>
              <a:rPr b="0" lang="en-US" sz="4400" spc="-1" strike="noStrike">
                <a:solidFill>
                  <a:srgbClr val="00386b"/>
                </a:solidFill>
                <a:latin typeface="Arial"/>
              </a:rPr>
              <a:t>Project Portfol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PLTW_MT_L_3Crgb.jpg"/>
          <p:cNvPicPr/>
          <p:nvPr/>
        </p:nvPicPr>
        <p:blipFill>
          <a:blip r:embed="rId1"/>
          <a:stretch/>
        </p:blipFill>
        <p:spPr>
          <a:xfrm>
            <a:off x="1447920" y="212760"/>
            <a:ext cx="624672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86b"/>
                </a:solidFill>
                <a:latin typeface="Arial"/>
              </a:rPr>
              <a:t>Image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-465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rosoft, Inc. (n.d.)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ip art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trieved September 30, 2009, from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office.microsoft.com/en-us/clipart/default.asp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us Architects. Stuart Engals II Project Drawings. Mount Pleasant, S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rcRect l="0" t="-797" r="-3810" b="0"/>
          <a:stretch/>
        </p:blipFill>
        <p:spPr>
          <a:xfrm>
            <a:off x="0" y="0"/>
            <a:ext cx="723888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86b"/>
                </a:solidFill>
                <a:latin typeface="Arial"/>
              </a:rPr>
              <a:t>Project Portfolio Deliver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886200" y="152388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er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tectural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te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ability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stification and 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Drawings and Spec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gineering Calc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86b"/>
                </a:solidFill>
                <a:latin typeface="Arial"/>
              </a:rPr>
              <a:t>Architectural Pr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04560" y="1676520"/>
            <a:ext cx="38862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ten definition of the required functions of the project and includes design criteria and constrai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4516560" y="1047600"/>
            <a:ext cx="6443640" cy="639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86b"/>
                </a:solidFill>
                <a:latin typeface="Arial"/>
              </a:rPr>
              <a:t>Design Draw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1355760" y="1335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4876920" y="1676520"/>
            <a:ext cx="394956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urpos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how the                   location of all of the design features in a design project; created by hand or on comput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s drawings, sections, elevations, schedules, and 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8" descr=""/>
          <p:cNvPicPr/>
          <p:nvPr/>
        </p:nvPicPr>
        <p:blipFill>
          <a:blip r:embed="rId1"/>
          <a:stretch/>
        </p:blipFill>
        <p:spPr>
          <a:xfrm>
            <a:off x="471600" y="330120"/>
            <a:ext cx="3389040" cy="3195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"/>
          <p:cNvPicPr/>
          <p:nvPr/>
        </p:nvPicPr>
        <p:blipFill>
          <a:blip r:embed="rId2"/>
          <a:stretch/>
        </p:blipFill>
        <p:spPr>
          <a:xfrm>
            <a:off x="457200" y="3809880"/>
            <a:ext cx="345132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86b"/>
                </a:solidFill>
                <a:latin typeface="Arial"/>
              </a:rPr>
              <a:t>Sections and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1430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ype of drawing depicting an object as if it had been cut through to show the interior co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Detail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nlargement of a specific area of a structure that is drawn where several components intersect or where small members are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"/>
          <p:cNvPicPr/>
          <p:nvPr/>
        </p:nvPicPr>
        <p:blipFill>
          <a:blip r:embed="rId1"/>
          <a:stretch/>
        </p:blipFill>
        <p:spPr>
          <a:xfrm>
            <a:off x="4495680" y="1709640"/>
            <a:ext cx="3962520" cy="16430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"/>
          <p:cNvPicPr/>
          <p:nvPr/>
        </p:nvPicPr>
        <p:blipFill>
          <a:blip r:embed="rId2"/>
          <a:srcRect l="2112" t="0" r="0" b="0"/>
          <a:stretch/>
        </p:blipFill>
        <p:spPr>
          <a:xfrm>
            <a:off x="4876920" y="3611520"/>
            <a:ext cx="3533760" cy="28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86b"/>
                </a:solidFill>
                <a:latin typeface="Arial"/>
              </a:rPr>
              <a:t>Elev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2193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roup of drawings that shows the exterior of a bui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rthographic dra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s one side of a bui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rior shapes and finis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tical relationships of the building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1204920" y="3259080"/>
            <a:ext cx="5805360" cy="35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7" descr=""/>
          <p:cNvPicPr/>
          <p:nvPr/>
        </p:nvPicPr>
        <p:blipFill>
          <a:blip r:embed="rId1"/>
          <a:stretch/>
        </p:blipFill>
        <p:spPr>
          <a:xfrm>
            <a:off x="3191040" y="3809880"/>
            <a:ext cx="5952960" cy="25718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86b"/>
                </a:solidFill>
                <a:latin typeface="Arial"/>
              </a:rPr>
              <a:t>Rende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228600" y="26668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aterials Used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cil, ink, water colors, marker, tempera, colored pencil, appliqué / overlay, and air brus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228600" y="1066680"/>
            <a:ext cx="8381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urpos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dd an element of realism with the use of shades, shadows, and textures that would not otherwise be 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228600" y="3886200"/>
            <a:ext cx="32767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ype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rior and interior perspective, elevations, plot plan, floor plan, and s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0" y="1209600"/>
            <a:ext cx="9144000" cy="56484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86b"/>
                </a:solidFill>
                <a:latin typeface="Arial"/>
              </a:rPr>
              <a:t>Specif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685800" y="5029200"/>
            <a:ext cx="7772400" cy="143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urpos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the necessary written information to describe the materials, methods, and fixtures used in the design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reeform 4"/>
          <p:cNvSpPr/>
          <p:nvPr/>
        </p:nvSpPr>
        <p:spPr>
          <a:xfrm>
            <a:off x="76320" y="5791320"/>
            <a:ext cx="8915400" cy="914400"/>
          </a:xfrm>
          <a:custGeom>
            <a:avLst/>
            <a:gdLst>
              <a:gd name="textAreaLeft" fmla="*/ 0 w 8915400"/>
              <a:gd name="textAreaRight" fmla="*/ 8915760 w 89154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6720" h="576">
                <a:moveTo>
                  <a:pt x="0" y="576"/>
                </a:moveTo>
                <a:lnTo>
                  <a:pt x="6720" y="576"/>
                </a:lnTo>
                <a:lnTo>
                  <a:pt x="6576" y="256"/>
                </a:lnTo>
                <a:lnTo>
                  <a:pt x="6432" y="320"/>
                </a:lnTo>
                <a:lnTo>
                  <a:pt x="6288" y="128"/>
                </a:lnTo>
                <a:lnTo>
                  <a:pt x="6096" y="320"/>
                </a:lnTo>
                <a:lnTo>
                  <a:pt x="5904" y="192"/>
                </a:lnTo>
                <a:lnTo>
                  <a:pt x="5664" y="384"/>
                </a:lnTo>
                <a:lnTo>
                  <a:pt x="5376" y="256"/>
                </a:lnTo>
                <a:lnTo>
                  <a:pt x="5184" y="320"/>
                </a:lnTo>
                <a:lnTo>
                  <a:pt x="4848" y="128"/>
                </a:lnTo>
                <a:lnTo>
                  <a:pt x="4614" y="296"/>
                </a:lnTo>
                <a:lnTo>
                  <a:pt x="4368" y="128"/>
                </a:lnTo>
                <a:lnTo>
                  <a:pt x="4272" y="256"/>
                </a:lnTo>
                <a:lnTo>
                  <a:pt x="3552" y="64"/>
                </a:lnTo>
                <a:lnTo>
                  <a:pt x="3456" y="256"/>
                </a:lnTo>
                <a:lnTo>
                  <a:pt x="3264" y="64"/>
                </a:lnTo>
                <a:lnTo>
                  <a:pt x="3024" y="320"/>
                </a:lnTo>
                <a:lnTo>
                  <a:pt x="2592" y="0"/>
                </a:lnTo>
                <a:lnTo>
                  <a:pt x="2304" y="256"/>
                </a:lnTo>
                <a:lnTo>
                  <a:pt x="1968" y="0"/>
                </a:lnTo>
                <a:lnTo>
                  <a:pt x="1680" y="128"/>
                </a:lnTo>
                <a:lnTo>
                  <a:pt x="1440" y="64"/>
                </a:lnTo>
                <a:lnTo>
                  <a:pt x="1248" y="256"/>
                </a:lnTo>
                <a:lnTo>
                  <a:pt x="1056" y="64"/>
                </a:lnTo>
                <a:lnTo>
                  <a:pt x="816" y="320"/>
                </a:lnTo>
                <a:lnTo>
                  <a:pt x="672" y="64"/>
                </a:lnTo>
                <a:lnTo>
                  <a:pt x="576" y="192"/>
                </a:lnTo>
                <a:lnTo>
                  <a:pt x="432" y="64"/>
                </a:lnTo>
                <a:lnTo>
                  <a:pt x="240" y="384"/>
                </a:lnTo>
                <a:lnTo>
                  <a:pt x="144" y="64"/>
                </a:lnTo>
                <a:lnTo>
                  <a:pt x="0" y="320"/>
                </a:lnTo>
                <a:lnTo>
                  <a:pt x="0" y="57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86b"/>
                </a:solidFill>
                <a:latin typeface="Arial"/>
              </a:rPr>
              <a:t>3D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380880" y="1143000"/>
            <a:ext cx="53341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urpos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represent the final design in a physical form that is as realistic as possible, computer-generated or fabrica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304920" y="3505320"/>
            <a:ext cx="472428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dvantag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moved around and viewed from any angle; show interior and exterior details; the addition of scaled objects (people, furniture, vehicles) gives visual clues as to the actual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G:\My Pictures\Picture cea ied 6_02\Picture cea ied 6_02 039.jpg"/>
          <p:cNvPicPr/>
          <p:nvPr/>
        </p:nvPicPr>
        <p:blipFill>
          <a:blip r:embed="rId1"/>
          <a:stretch/>
        </p:blipFill>
        <p:spPr>
          <a:xfrm>
            <a:off x="5715000" y="1349280"/>
            <a:ext cx="311940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18:29:05Z</dcterms:created>
  <dc:creator>CEA Revision Team</dc:creator>
  <dc:description/>
  <dc:language>en-US</dc:language>
  <cp:lastModifiedBy>apkelleh</cp:lastModifiedBy>
  <dcterms:modified xsi:type="dcterms:W3CDTF">2011-05-04T17:19:23Z</dcterms:modified>
  <cp:revision>20</cp:revision>
  <dc:subject>CEA - Lesson 4.2 - Commercial Building Design Presentation</dc:subject>
  <dc:title>Commercial Building Project Portfolio</dc:title>
</cp:coreProperties>
</file>